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C1C24-8E9F-4873-B7A3-B3DCED015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0076-3997-4230-AAFD-9AFE07E41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8697C-79E2-4F1E-A7EC-A1442E63A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B592C-8CDD-4471-8C9E-F67695268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79E78-EC36-4242-A8B2-09D09C4B2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26C1E-CFCE-4912-9199-72450AD6B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4D81E-63E0-4DA3-8A22-767F622B9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AB73C-22BB-4AD5-BD5D-62AA50789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1993F-DC84-4013-B26F-49B01AD3F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7CB6-8D01-4E81-8E9E-26E0FFFCC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974C2-44D7-4D83-8C1B-8F12927C3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A4FA-6C79-464E-B5E7-01C39075C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1767-FB50-4B8C-98CB-76B4B9F692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dc.gov/nhsn/FAQ_enrollment.html" TargetMode="External"/><Relationship Id="rId2" Type="http://schemas.openxmlformats.org/officeDocument/2006/relationships/hyperlink" Target="http://www.cdc.gov/nhsn/FAQ_general.html" TargetMode="External"/><Relationship Id="rId3" Type="http://schemas.openxmlformats.org/officeDocument/2006/relationships/hyperlink" Target="mailto:nhsn@cdc.go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hyperlink" Target="mailto:NHSN@cdc.gov" TargetMode="External"/><Relationship Id="rId3" Type="http://schemas.openxmlformats.org/officeDocument/2006/relationships/hyperlink" Target="mailto:IRF.questions@cms.hhs.go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761760" y="1828440"/>
            <a:ext cx="7848360" cy="441972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53735"/>
                </a:solidFill>
                <a:latin typeface="Calibri"/>
              </a:rPr>
              <a:t>Update on the CMS Quality Reporting Program for</a:t>
            </a:r>
            <a:br>
              <a:rPr sz="3400"/>
            </a:br>
            <a:r>
              <a:rPr b="1" lang="en-US" sz="3400" spc="-1" strike="noStrike">
                <a:solidFill>
                  <a:srgbClr val="953735"/>
                </a:solidFill>
                <a:latin typeface="Calibri"/>
              </a:rPr>
              <a:t>Inpatient Rehabilitation Facilities*</a:t>
            </a:r>
            <a:endParaRPr b="0" lang="en-US" sz="3400" spc="-1" strike="noStrike">
              <a:solidFill>
                <a:srgbClr val="000000"/>
              </a:solidFill>
              <a:latin typeface="Calibri"/>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1" lang="en-US" sz="3400" spc="-1" strike="noStrike">
                <a:solidFill>
                  <a:srgbClr val="000000"/>
                </a:solidFill>
                <a:latin typeface="Calibri"/>
              </a:rPr>
              <a:t>Thursday, </a:t>
            </a:r>
            <a:r>
              <a:rPr b="1" lang="en-US" sz="3400" spc="-1" strike="noStrike">
                <a:solidFill>
                  <a:srgbClr val="0d0d0d"/>
                </a:solidFill>
                <a:latin typeface="Calibri"/>
              </a:rPr>
              <a:t>July 26</a:t>
            </a:r>
            <a:r>
              <a:rPr b="1" lang="en-US" sz="3400" spc="-1" strike="noStrike" baseline="30000">
                <a:solidFill>
                  <a:srgbClr val="0d0d0d"/>
                </a:solidFill>
                <a:latin typeface="Calibri"/>
              </a:rPr>
              <a:t>th</a:t>
            </a:r>
            <a:r>
              <a:rPr b="1" lang="en-US" sz="3400" spc="-1" strike="noStrike">
                <a:solidFill>
                  <a:srgbClr val="0d0d0d"/>
                </a:solidFill>
                <a:latin typeface="Calibri"/>
              </a:rPr>
              <a:t>, 2012</a:t>
            </a:r>
            <a:endParaRPr b="0" lang="en-US" sz="3400" spc="-1" strike="noStrike">
              <a:solidFill>
                <a:srgbClr val="000000"/>
              </a:solidFill>
              <a:latin typeface="Calibri"/>
            </a:endParaRPr>
          </a:p>
          <a:p>
            <a:pPr indent="0" algn="ctr">
              <a:spcBef>
                <a:spcPts val="8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98989"/>
                </a:solidFill>
                <a:latin typeface="Calibri"/>
              </a:rPr>
              <a:t>1:00 p.m. – 2:30 p.m. (ET)</a:t>
            </a:r>
            <a:endParaRPr b="0" lang="en-US" sz="3400" spc="-1" strike="noStrike">
              <a:solidFill>
                <a:srgbClr val="000000"/>
              </a:solidFill>
              <a:latin typeface="Calibri"/>
            </a:endParaRPr>
          </a:p>
          <a:p>
            <a:pPr indent="0" algn="ctr">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tient Protection and Affordable Care Act, Section 3004(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equently Asked Questions- Pressure Ulcers and IRF-PAI Data Sub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f a patient is admitted with a stageable pressure ulcer, but is unstageable at the time of discharge from the IRF, is this considered wors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Although all unstageable pressure ulcers should be recorded in the patient’s medical record, the IRF-PAI does not currently collect data on unstageable pressure ulcers. The IRF-PAI is only collecting data on worsening in pressure ulcers that are numerically stag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0" name=""/>
          <p:cNvSpPr txBox="1"/>
          <p:nvPr/>
        </p:nvSpPr>
        <p:spPr>
          <a:xfrm>
            <a:off x="457200" y="15890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admission documentation of pressure ulcer information must be done within the first 3 days of ad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admission assessment, complete the assessment as close to the actual time of admission as possible. CMS recognizes that the full initial assessment may not occur during the first day, and allow the admission assessment to occur during the first 3 calendar days of the stay. The best clinical practice is to complete a full skin assessment as soon as i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discharge documentation of pressure ulcer information must be done within the first 3 days of dis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discharge assessment, complete the assessment as close to the time of discharge as possible. CMS recognizes that a full final assessment may not occur on the last day of the stay, and allows the discharge assessment to occur during the last 3 calendar days of the stay. The best clinical practice is to complete a full skin assessment as close to the time of discharge tha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Where would I document an unstageable pressure ulcer in the new quality indicator section of the 10/1/12 IRF-PA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Do not report any unstageable pressure ulcer on the IRF-PAI that remains unstageable throughout the duration of the patient’s IRF stay. If the pressure ulcer was unstageable on admission, but becomes stageable during the IRF stay, then </a:t>
            </a:r>
            <a:r>
              <a:rPr b="1" i="1" lang="en-US" sz="2400" spc="-1" strike="noStrike">
                <a:solidFill>
                  <a:srgbClr val="000000"/>
                </a:solidFill>
                <a:latin typeface="Calibri"/>
              </a:rPr>
              <a:t>it should be considered as present at the time of admission at the stage at which it first becomes stageable. </a:t>
            </a:r>
            <a:r>
              <a:rPr b="0" lang="en-US" sz="2400" spc="-1" strike="noStrike">
                <a:solidFill>
                  <a:srgbClr val="000000"/>
                </a:solidFill>
                <a:latin typeface="Calibri"/>
              </a:rPr>
              <a:t>If the patient’s unstageable pressure ulcer never becomes a stageable pressure ulcer, then it would not reported on the IRF-PA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If a pressure ulcer is acquired or worsens during a patient’s program interruption (in acute care), how would this information be recorded on the IRF-PA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r>
              <a:rPr b="0" lang="en-US" sz="2400" spc="-1" strike="noStrike">
                <a:solidFill>
                  <a:srgbClr val="000000"/>
                </a:solidFill>
                <a:latin typeface="Calibri"/>
              </a:rPr>
              <a:t> If the patient was admitted to the acute care hospital and returned to the IRF in less than 3 days, the patient had an interrupted stay, and was not officially discharged from the IR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MS sees acute care facilities and post-acute care facilities as having shared responsibility for patients’ health, and encourages all healthcare providers to coordinate patient care so as to achieve the highest quality of ca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Ulcer Data Submis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andatory pressure ulcer items included on the IRF-PAI in the “Quality Indicator S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Quality Indicator items that had been voluntary in past have been deleted (respiratory status, pain, 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IRF-PAI assessment collection software (jIRVEN) will be available from CMS to support the 10/01/2012 rel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IRF-PAI submission process will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What IRF-PAI form should a facility use if a patient straddles the October 1, 2012 date - for example, if a patient is admitted on September 15th and is discharged on October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The new IRF-PAI form can be filled out by facilities prior to October 1, 2012, but it cannot be submitted to CMS prior to October 1, 2012. A facility should use the new IRF-PAI for patients who are expected to be discharged after October 1, 201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Any submission file submitted on or after October 1, 2012 must be in the new file form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does the submission process change October 1, 2012? What if a facility discharged a patient on September 27th but did not submit the IRF-PAI at dischar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Submit the discharge IRF-PAI as soon as possible after discharge. CMS will continue to accept the old IRF-PAI for patients who were admitted and discharged prior to October 1,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If the record is submitted on or after October 1, 2012, the record must be in the new file format. It will still contain the items from the “old” 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CAUT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Section 3004 of the Affordable Care Act</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how to successfully submit data and avoid penalties</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Data Submis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enters for Disease Control (CDC) via the NHSN (National Health Safety Net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77" name=""/>
          <p:cNvSpPr txBox="1"/>
          <p:nvPr/>
        </p:nvSpPr>
        <p:spPr>
          <a:xfrm>
            <a:off x="457200" y="1142640"/>
            <a:ext cx="8229600" cy="53341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fore you begin the enrollment process:</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your facility’s CCN I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CDC NHSN Urinary tract infection diagnostic cri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echnical and legal requirements for the NH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NOT registered with CDC NHSN: What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Enrollment/Registr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determine that your facility is not already enrolled within NHS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oint a person from your facility as the NHSN Facility Administrator to enroll the facility in NHS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online train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oll in NHS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with NHS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pply for a CDC Digital Certificat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 in NHSN by completing the necessary contact information and survey form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 sign, and return consent form to CD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ALREADY enrolled in CDC NHSN: What to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ic Steps if your Facility is already Enrolled in NHSN</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online NHSN training</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if the rehab unit has already been added as a location within your NHSN facility</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online directions to appropriately set up your rehab unit to submit data to C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and Hi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enrollment can be found here: </a:t>
            </a:r>
            <a:r>
              <a:rPr b="0" lang="en-US" sz="2400" spc="-1" strike="noStrike" u="sng">
                <a:solidFill>
                  <a:srgbClr val="0000ff"/>
                </a:solidFill>
                <a:uFillTx/>
                <a:latin typeface="Calibri"/>
                <a:hlinkClick r:id="rId1"/>
              </a:rPr>
              <a:t>http://www.cdc.gov/nhsn/FAQ_enrollment.html</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the NHSN in general can be found here: </a:t>
            </a:r>
            <a:r>
              <a:rPr b="0" lang="en-US" sz="2400" spc="-1" strike="noStrike" u="sng">
                <a:solidFill>
                  <a:srgbClr val="0000ff"/>
                </a:solidFill>
                <a:uFillTx/>
                <a:latin typeface="Calibri"/>
                <a:hlinkClick r:id="rId2"/>
              </a:rPr>
              <a:t>http://www.cdc.gov/nhsn/FAQ_general.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nd questions and/or comments about the NHSN, send an email to: </a:t>
            </a:r>
            <a:r>
              <a:rPr b="0" lang="en-US" sz="2400" spc="-1" strike="noStrike" u="sng">
                <a:solidFill>
                  <a:srgbClr val="0000ff"/>
                </a:solidFill>
                <a:uFillTx/>
                <a:latin typeface="Calibri"/>
                <a:hlinkClick r:id="rId3"/>
              </a:rPr>
              <a:t>nhsn@cdc.gov</a:t>
            </a:r>
            <a:r>
              <a:rPr b="0" lang="en-US" sz="2400" spc="-1" strike="noStrike">
                <a:solidFill>
                  <a:srgbClr val="000000"/>
                </a:solidFill>
                <a:latin typeface="Calibri"/>
              </a:rPr>
              <a:t>. Each message will be forwarded to the appropriate person and a response will be sent to y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ing CAUTIs Using NHS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nthly Reporting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a monthly summary form indicating the number of indwelling catheter days for the location must be reported, even if that number was zero, using the ICU/Other Denominator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were no CAUTIs for the month: Check the “Report No Events: CAUTI” box on the Denominator for Intensive Care Unit/Other Locations screen with the NHSN applic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is a CAUTI: fill out a Urinary Tract Infection event form for each CAUTI identified in the rehab loca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tion 3004 of the Patient Protection and Affordable Care Act (PPACA), was passed in March, 2010</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PAI data coding or IRF-PAI Data submission:</a:t>
            </a:r>
            <a:br>
              <a:rPr sz="2800"/>
            </a:br>
            <a:r>
              <a:rPr b="0" lang="en-US" sz="2400" spc="-1" strike="noStrike">
                <a:solidFill>
                  <a:srgbClr val="000000"/>
                </a:solidFill>
                <a:latin typeface="Calibri"/>
              </a:rPr>
              <a:t>Phone: 1-800-339-9313 or email: </a:t>
            </a:r>
            <a:r>
              <a:rPr b="0" lang="en-US" sz="2400" spc="-1" strike="noStrike" u="sng">
                <a:solidFill>
                  <a:srgbClr val="0000ff"/>
                </a:solidFill>
                <a:uFillTx/>
                <a:latin typeface="Calibri"/>
                <a:hlinkClick r:id="rId1"/>
              </a:rPr>
              <a:t>help@qtso.com</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UTI data or submission or NHSN registration:</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2"/>
              </a:rPr>
              <a:t>NHSN@cdc.gov</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 calculation, data submission deadlines, the new pressure ulcer items:</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3"/>
              </a:rPr>
              <a:t>IRF.questions@cms.hhs.gov</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Training Opportunities for IRF Providers</a:t>
            </a:r>
            <a:endParaRPr b="0" lang="en-US" sz="2800" spc="-1" strike="noStrike">
              <a:solidFill>
                <a:srgbClr val="000000"/>
              </a:solidFill>
              <a:latin typeface="Calibri"/>
            </a:endParaRPr>
          </a:p>
        </p:txBody>
      </p:sp>
      <p:sp>
        <p:nvSpPr>
          <p:cNvPr id="94" name=""/>
          <p:cNvSpPr txBox="1"/>
          <p:nvPr/>
        </p:nvSpPr>
        <p:spPr>
          <a:xfrm>
            <a:off x="457200" y="1143000"/>
            <a:ext cx="822960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F-PAI was developed by the C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atient Rehabilitation Validation and Entry system (jIRVEN) is a free, Java based application that provides an option for facilities to collect and maintain facility, patient and IRF-PAI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recorded WebEx training videos will be available by the week of August 20th that will review some key areas of the jIRVEN too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1 </a:t>
            </a:r>
            <a:r>
              <a:rPr b="0" lang="en-US" sz="2000" spc="-1" strike="noStrike">
                <a:solidFill>
                  <a:srgbClr val="000000"/>
                </a:solidFill>
                <a:latin typeface="Calibri"/>
              </a:rPr>
              <a:t>- How to login into the tool &amp; how to add facility and user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2 </a:t>
            </a:r>
            <a:r>
              <a:rPr b="0" lang="en-US" sz="2000" spc="-1" strike="noStrike">
                <a:solidFill>
                  <a:srgbClr val="000000"/>
                </a:solidFill>
                <a:latin typeface="Calibri"/>
              </a:rPr>
              <a:t>– How to create patient and assessment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3 </a:t>
            </a:r>
            <a:r>
              <a:rPr b="0" lang="en-US" sz="2000" spc="-1" strike="noStrike">
                <a:solidFill>
                  <a:srgbClr val="000000"/>
                </a:solidFill>
                <a:latin typeface="Calibri"/>
              </a:rPr>
              <a:t>– How to import and export assessmen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4 </a:t>
            </a:r>
            <a:r>
              <a:rPr b="0" lang="en-US" sz="2000" spc="-1" strike="noStrike">
                <a:solidFill>
                  <a:srgbClr val="000000"/>
                </a:solidFill>
                <a:latin typeface="Calibri"/>
              </a:rPr>
              <a:t>– Review of the reports available within the jIRVEN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cal Training Opportunities for IRF Provider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recorded WebEx training videos will be available the week of September 3 that will review key areas of the Submission System:</a:t>
            </a:r>
            <a:endParaRPr b="0" lang="en-US" sz="32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Submission Process - Recorded WebEx posted week of 9/3/12</a:t>
            </a:r>
            <a:endParaRPr b="0" lang="en-US" sz="28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and Validation Reports - Recorded WebEx posted week of 9/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coming Open Door Foru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August 16, 2012</a:t>
            </a:r>
            <a:br>
              <a:rPr sz="3200"/>
            </a:br>
            <a:r>
              <a:rPr b="0" lang="en-US" sz="3200" spc="-1" strike="noStrike">
                <a:solidFill>
                  <a:srgbClr val="000000"/>
                </a:solidFill>
                <a:latin typeface="Calibri"/>
              </a:rPr>
              <a:t>1:00 p.m. – 2:30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September 20,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October 18,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NOT used to penalize providers for performance on quali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a:t>
            </a:r>
            <a:br>
              <a:rPr sz="4000"/>
            </a:br>
            <a:r>
              <a:rPr b="0" lang="en-US" sz="4000" spc="-1" strike="noStrike">
                <a:solidFill>
                  <a:srgbClr val="000000"/>
                </a:solidFill>
                <a:latin typeface="Calibri"/>
              </a:rPr>
              <a:t> New or Worsening Pressure Ulc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to the IRF-PAI</a:t>
            </a:r>
            <a:endParaRPr b="0" lang="en-US" sz="4400" spc="-1" strike="noStrike">
              <a:solidFill>
                <a:srgbClr val="000000"/>
              </a:solidFill>
              <a:latin typeface="Calibri"/>
            </a:endParaRPr>
          </a:p>
        </p:txBody>
      </p:sp>
      <p:sp>
        <p:nvSpPr>
          <p:cNvPr id="53"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SH tool on the IRF-PAI has been replaced with updated pressure ulcer items (48A through 50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an IRF may decide not to submit pressure ulcer data (items 48A through 50D), failure to complete these items will result in payment reduction of two percentage points starting in Fiscal Year 201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Updated IRF-PAI"/>
          <p:cNvPicPr/>
          <p:nvPr/>
        </p:nvPicPr>
        <p:blipFill>
          <a:blip r:embed="rId1"/>
          <a:stretch/>
        </p:blipFill>
        <p:spPr>
          <a:xfrm>
            <a:off x="2057400" y="228600"/>
            <a:ext cx="577044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Updated IRF-PAI"/>
          <p:cNvPicPr/>
          <p:nvPr/>
        </p:nvPicPr>
        <p:blipFill>
          <a:blip r:embed="rId1"/>
          <a:stretch/>
        </p:blipFill>
        <p:spPr>
          <a:xfrm>
            <a:off x="1600200" y="228600"/>
            <a:ext cx="561024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02:19:13Z</dcterms:created>
  <dc:creator>aetlinger</dc:creator>
  <dc:description/>
  <dc:language>en-US</dc:language>
  <cp:lastModifiedBy>CMS</cp:lastModifiedBy>
  <cp:lastPrinted>2012-07-24T18:14:02Z</cp:lastPrinted>
  <dcterms:modified xsi:type="dcterms:W3CDTF">2012-07-25T17:21:14Z</dcterms:modified>
  <cp:revision>40</cp:revision>
  <dc:subject/>
  <dc:title> Special Open Door Forum</dc:title>
</cp:coreProperties>
</file>